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8E3-949F-4E15-8679-05781959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338-8AB5-42B2-BFC8-AE6E81F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0601-9DD7-40FC-B916-3EC9BA1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5242B-6592-469D-835E-1B54DD0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60DA-8C15-4782-88F1-7F52B0AF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38D46-B8D5-4942-ACCF-62E5A57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67CAA-67CF-4299-8041-566D5A3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2A367-C318-4601-9400-6D9C731E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1B9DC-3F12-48EF-9E74-BB97F022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AA5A-C3C2-4E90-AF86-93384BBB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1300F-7B6F-42FD-8E5A-77B03F85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0738D-E631-4B35-8BCB-96305541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F65-D9AB-4C95-AB19-18EF9C8E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72FA-6CF1-4AA2-822E-36931F41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56599-1D5A-4432-A4E4-9D654617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AAB61-740A-4D1C-B053-DB8A466B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AC68-876A-4E58-913E-A989685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9FC72-9E0F-485B-A750-98C7B31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8B3DB-FB7E-4FE4-AF54-9C7A991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2A001-4C17-445A-B439-70A2151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5F26A-4E3B-48F4-82A1-52EB514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82CA0-8008-4EBD-B571-6FDA5927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C33C-C4C6-4D69-94CB-D33577D2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2BF-1B1C-443D-B472-2F33EEAB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22976-F6DB-48E9-9EEA-9AABDB3B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9514-64E0-4CE0-B1ED-9E85F923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7AF02-FC5D-4CEE-9505-B9242189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2582A-61F2-467E-A23B-48B2100F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FAA07-7507-44E5-A2FD-8D4FF64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E366-E95F-4303-B616-DFC672D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1318C-15E2-42EA-A35F-24026BC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D3AA-A004-4B15-A918-79473C6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1E3B8-4A6B-47B6-BA88-C5CF58D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68B5A-6E83-4BB6-8CBA-C4FD748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010-B084-4CE0-98F7-6EADF43C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38D03-B8CD-41E3-8783-D8811C9C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C7DA1-7922-4619-A05B-8D1DE055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D62C-4160-4A66-8F8A-1BC58BDA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2EA5F-6A5F-471A-B6E3-49E69FC8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A2F71-346E-4726-B67F-49690352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39CD4-7E7A-4DBC-98E2-107BDEA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49723-3ABF-403F-8204-F73C571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4DA6C-4808-4658-BAE9-288B930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D5598-2597-4DE0-81BC-E653691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B0C55-C4DA-4948-A272-802DC8F4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3950-9BF0-4693-A972-9B683B70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45091-DF79-40DF-8779-07BB3A7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94AFF-730E-44B2-85B2-BE2D9CC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37762-4B5C-416B-90A8-44528D5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F9D5D-1A6F-4C8E-8BF2-400FE80A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936DF-94C1-430E-A1B7-0E66F352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325E5-CD1B-42A3-9831-5609491D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D8C28-6DC5-4F58-BEA2-E501704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D1DAE-1CB2-4BC8-8D36-21229D86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A8CE6-A0D7-463C-ACF2-73A9A7A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A4819-65C0-440E-823B-B54799E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6798-09F0-46C7-A549-C267B3D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78977-4141-4D7D-ABAE-97C88BE9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B4558-13B2-4E19-A34E-7C31C8B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11D27-DDF2-4C1D-B88E-BB68A7A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A2B9F-FC2C-4482-B39C-CF17DF82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8D640-668F-4709-95E7-C0F89B62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23E73-6FDC-4CE4-9F5C-B18346D8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386FE-7E3A-46A2-AC8A-54B25F24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380C4-F11C-4A6A-A5B5-514E77A2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5E4E6-61D7-4726-B977-13276666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29FD0-6755-4E28-8B6E-86878BF7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5E9-9404-4C8E-96BE-70FB160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AABCF-CC66-4B0F-AE2A-C6F6D36F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5B647-DA41-4E4F-8FCB-5AC47F2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98942-6E9D-464E-A584-324010A8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94EE7-35CD-499A-BE4B-492BA2B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075A6-5DB6-4BB0-96FC-B39A48C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A5954-BF1F-4183-AE00-DF5B859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EB9FC-6B22-449E-B068-3D09421C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91950-A355-46C8-ADFB-91F368F9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8688D-D36C-4AFC-A177-D8E06A46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656D5-AFC3-4A77-BF88-D7A7540A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444-6E19-4051-841A-A4302A59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46CEB-4614-48EB-804F-E8C34EA7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FA68D-5CB5-4D3F-BA45-97C5040A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20B46-A930-4059-8E93-55458A1A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0702D-458F-4CE3-ACAC-F2963E4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832C6-BC5F-4AE1-BBEB-9273EAA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32EEB-6FB3-47A9-8C0C-EBA9EDD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5C25D-E920-41B2-874C-93883AC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23C75-6C13-4922-B8DD-C952DB4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44AEB-EDC6-4854-914C-C4B11DD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A3831-D728-420E-87C0-9F077E43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0637-275D-4CC0-BD5D-380BA45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F1B5B-A059-446C-A38D-1A71752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E1F17-CC18-4A92-A776-36F1C541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A04EE-AF0F-4ED3-A8EA-B1A7F04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A39B3-090E-4257-BA84-94E47F2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9627A-AD22-4679-9995-FF381AF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675E9-B9C8-44AB-A72C-27498F6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D4A89-D022-4D0A-9295-BA0C3DA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EBA2D-C61A-4866-9A9B-6225DF6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7ADEC-82B2-4552-8293-52B582E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60BF2-6432-4A6A-8E1B-E832C7F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EA3-1E02-469E-A544-D1A33D4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5948E-AC64-44E9-830F-3E7C73A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F5360-96DF-4702-9BBB-DFE33676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65120-4648-4933-87F2-8E4682BF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665F2-38CF-42EC-945F-B0658E24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5FB75-5C8B-42A6-8B76-2DBDF58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D8B94-0968-45BA-893E-20067FE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D313E-7E83-456E-8E92-5AA9BCB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3C609-7D76-428D-8903-439D202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3E10F-E8C3-40C9-86BA-F0FCC933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DB3E6-9A0D-4233-86C4-7FF171D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C87-B058-453A-A03C-AF1B003A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D08-0522-4C2B-B9EA-BFBB290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8FF13-A43E-477F-9E41-776D869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F6E38-3815-4ED1-A124-C1C82A1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888F4-8299-4E50-92D8-6E6728A2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A338F-173C-4807-BB89-5AD0844A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C3215-3DE4-4675-9A77-E839A828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9C0D7-4A73-4204-B971-235249FF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0D627-F366-4EBB-8E52-EC698F9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F10181-F8D5-414F-A2AC-3680757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585DB-EB4A-4C3D-90A0-7782AE9F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A9C3F-0078-4C39-8F9D-893D35C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1ECF-2D2C-42D8-9598-1915400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B2EFA-4C12-439C-9C18-375125C0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53085-DF09-49FB-8E7B-052DFFC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B1EA3-E90E-4C6C-AB48-CFBF2C8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7F0E6-222C-4A82-A07F-FDB1EEA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49515-3DAF-4534-A5BD-780F156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A3A2D-6BF7-49E7-A3EF-00561092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744C7-3DAA-4EE4-B49E-E463E44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149EE-8DEB-487A-9DD0-76A39AE4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413B7-A7E5-4821-97DC-6E670AA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40A0D-76BB-4773-ADA4-0316752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A4F1-9032-46AB-9BE6-5759EA5E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1FFB7-EEDB-422C-A360-34BF9255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A8DB5-FC8A-4E5C-ABC9-8537067D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A4425-26E0-4AAF-81E2-541028EC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1A32A-F831-4E96-9DF0-CAF47A3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D61C8-C3DE-4FC8-9B8A-F4FFFE8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B941D-0056-4F10-80B3-C2E741B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737A2-8830-4488-87BD-3FEF4E6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35883-1B6E-4BF7-AF03-993730BF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4EC26-EF67-4126-BABB-DCD3C3E5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DF742-9858-4AC5-A392-EB23FD23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F6D8-22A0-482E-883E-010EDDEC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ABC23-6C64-47B2-9E62-24F651C6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A352C-10E9-4BAF-990E-9080F03C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43619-412B-4483-B9F2-CA5EC48F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ADE51-AA81-48D2-933F-B9C1C14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D9AF7-0C83-4384-B917-76195251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3A80F-9E76-4C1C-9756-585FB20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2AA25-331E-40F8-AB2F-E2B695C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B7C8D-8333-49FB-8D34-32105FE5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D82CA-2B85-46F7-8B1B-091797A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02020-C1F4-4D60-A727-63ACABB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0D9-C039-48C5-A91E-E073BB6B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0B041-A87D-48F6-828B-029CBD5B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5119A-666B-4E92-9330-A04D339F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04738-CE23-4014-B89E-7B53F9F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28779-E501-4371-94B8-43DC25A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F3AC65-17E8-4E5F-A807-2152D52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865CF-9D96-4605-B1CA-58D900C5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8FB37-BDE4-4A61-9062-14ECA9B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D7C01-ABF8-47C5-B879-B207526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E9160-A32E-4179-960D-B8AC376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09AE1-5CFA-4D14-9AAB-7293A59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E3DD-C371-4E78-B257-8C9B1AFA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0F008-2A77-4218-A0EF-3DE05249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47AF3-B0AA-46FC-95AE-0BD014D4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09F35-4590-46A2-9F90-3AEDD37B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5809-5F9E-476C-909D-797E6F8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2770-DDEA-4CCA-A97E-A79B7CD6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5B55-44F0-4821-AE90-A27FDED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CF5D-A37E-4C65-9E79-FECB62A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751-E56B-4D8B-ADE1-6927E31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EAAC-10D1-46EF-9779-15C70CF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7562-972B-433C-A530-709B2BFD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03A3-922A-43FB-84C9-58D46D1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7F3B-E8B3-4947-91F3-0DECEDA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F1B8-D559-4F73-A487-47331B9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6370-8047-4720-87DB-01FDDAA5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9CE7-5241-4C6B-A6FA-214C38A5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EBA9-5ED0-46C1-963A-FF8FBE7F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85C7-0C2F-4BE3-8557-1D552FFA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2908-46DB-46C0-B558-4DAB34B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7A3-8C32-4409-87A8-62448EA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8AF7-2017-449F-8521-D313717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8A70-6C43-4D3D-A7D8-78C7EE5F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3E66-0C84-4762-8746-D0BE485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A962-7099-4255-9BB6-E16145C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E013-25D6-4183-8A7E-8122259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8A62-37BA-4200-BB66-84FEEFF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8161-6AF9-4D1E-B342-8D2088B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608E-5835-4F19-B850-9C1B686D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0F3C-927D-4244-8354-C999C7F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EDEA-10C1-451E-B591-72F5F3D5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F52-0593-4ADE-B7AA-4D56829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89E9-FDA7-471F-B290-07707BF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0F3B-F13F-44F8-BD78-CA741A41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30378-C37F-461B-B762-AFE6241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596A-C670-4AF7-A4F2-21999027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7BE2-B0B6-40B8-BE64-E9261FA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81503-5D42-4DCC-A3C3-662F58E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166D-E59F-45F8-B071-BBFEC91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D072-338F-45D8-A92E-7F6B013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A9AB-D90A-4496-B0E3-55F3AF3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9D06-F9AF-4701-B398-9B2A266F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0CC-7D52-4939-A10A-47146C8A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3760-E28C-4FBE-9018-0F01B1CB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0874-0777-4F46-8E4C-881B40B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9158-0E71-42BC-9D83-60FB7CE8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0CD8-4C77-4762-802D-93692778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6097-96D4-413C-9C72-26B5E36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FA23-5271-434A-B415-A52E364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44C69-3F4B-4ACC-A6FB-B0C70263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62A8-8198-4EFC-9543-8D09F69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4E8FE-DAA0-4AED-94DE-307E2D9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94A0-7119-4A73-A613-C7BA675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4BD-D50B-4536-999D-BC497B6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0927E-05B0-4509-A395-5889983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E9E0-7660-4E5D-B5C1-2C098A29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D5E1-8C3F-402F-8A47-C5212BD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F00AD-7677-4D56-ADA8-B82C0684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9C6F-7EC9-48E3-B7AF-87368BB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77EF-FAB3-4F87-A989-B609E44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D6BB5-36E8-451D-A4B3-718075E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1ED7E-E05A-4216-B056-2130F19C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DCEB1-393B-4FCB-94E7-EC1B9E2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F5EC-85F6-460A-8DA7-50A0F45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CD4-49AA-42F0-9ABC-564E134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754C-361E-45FF-8441-CDBB7D9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5941-61F9-47F2-80BE-CA588A0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5C18-B183-4C32-86AD-1117AB6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04DC1-34FF-4095-8400-4691EF5D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4BD6-A587-41A1-88A1-19F08498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25601-0061-4C12-8D64-FC0C6305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349BB-E872-4A47-9B31-46BD373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238E2-FDB7-460D-A47D-860B22A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29A2B-FEF4-45EF-AB6D-6232AC6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C0DB-DE3D-4CB4-8C27-BD0213F6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D4E-602F-4C91-82D8-67B7E8B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595F-5E30-4C50-AFA9-02FB537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A41D7-958B-48E0-A604-68D0F2D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C59E-0023-4101-B957-A72B2E3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8702-4320-46EA-A41C-37D5843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9AED-9C5C-46E1-BD6A-194CCF4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BF4C-5739-4D56-8103-0EF66B29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8EC20-CCEC-4F3F-BB4C-6798922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3683D-43DE-4FF6-9B29-A479F282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35C50-BF92-42B4-B2F2-DB3F2E5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12A53-E676-449C-821D-79B7C00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108-7F31-4D48-BB9E-8B44132ED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DC9-D9B3-41E0-90CA-ADB3EB974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40D-69AD-4AA6-8624-BA40A9EB4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CD2-8AEA-42F8-98C7-4E983FBE0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10E-5549-4F1C-A64D-918A3E613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9D24-FD81-4CC4-9153-0C0C4C1BA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35B8-D22B-47B3-87F9-2C409C55F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6F8-A879-4E41-8990-D444D13AC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0A7-D971-4BA7-9D40-98768ECEA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C01C-360D-40CA-B718-B42BE2A4B0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B602-A5DF-4F0F-841B-FD7C8CD19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F72-EB0A-495E-A8BF-B66689EB1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8B97-1BEC-4725-84C3-E9EEDECD2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C82-02FC-43F9-9345-B1447FE805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0D6-A11E-442A-B5CF-7373ECD57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C98B-EA3F-47EE-859A-EFAE5F68A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459-C3F5-4822-AF5A-4E0D91588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597-B87D-4B11-926B-F5C847FB6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5D3-97B3-4552-8F1A-5C9D820D3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C79-55ED-4B68-A7FB-ACE32D0920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E8A5-30D4-4BC6-A866-EABF2B81C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F0C8-02F3-46F2-B2EA-E7F723EE9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245-54C5-4F27-AD15-2E1CF3B41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E26-11BC-460C-B8B3-3FB5F0A69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952-9C84-4476-A3CD-623CC4851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FC34-A47D-4D2F-A1E6-670416F8D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2F79-9C1B-4178-8F86-3C20BE80B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EE76-DA1A-47F6-B0F7-4879A344D3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D91F-DCE0-4D13-99AC-AE382A958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891-37C3-4FFF-A2C7-0E0CE2A2D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0F5-EC9F-4247-9F73-D2C6C58A8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F50-387C-43D4-8578-D810BC2563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CDF-EF45-42FF-8822-38DDB96BB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1C78-4A13-4E6A-9B79-7F8C917FE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64E-1666-4938-AFBD-5437DD3F6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B977-47CC-4B1D-BAAD-CB5CAA406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9850-E4AC-40CC-BD87-14D31D79B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2F8D-F4DC-46DA-B0BB-6F54E53820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BEC-2CCB-47C4-8C2F-FA9662D0B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26B-FAC8-44EC-9F87-C2548C7D6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4000" y="1938240"/>
            <a:ext cx="8280360" cy="914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023920" y="3497400"/>
            <a:ext cx="509616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2231" descr=""/>
          <p:cNvPicPr/>
          <p:nvPr/>
        </p:nvPicPr>
        <p:blipFill>
          <a:blip r:embed="rId1"/>
          <a:stretch/>
        </p:blipFill>
        <p:spPr>
          <a:xfrm>
            <a:off x="295200" y="906480"/>
            <a:ext cx="8553600" cy="5762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6408720" cy="506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826920" y="6107040"/>
            <a:ext cx="7921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18960" y="1738440"/>
            <a:ext cx="8506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66720" y="1476360"/>
            <a:ext cx="7810560" cy="3905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572000" y="315612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50872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580000" y="309888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5580000" y="4019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516720" y="22194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6588000" y="315612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6588000" y="407664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2556000" y="4941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5580000" y="486900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623880" y="806400"/>
            <a:ext cx="7896240" cy="5791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323120" y="162720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979640" y="255096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174840" y="256536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308720" y="250668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979640" y="34718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3103560" y="342900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197964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3059280" y="4379760"/>
            <a:ext cx="502920" cy="393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428472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7783560" y="436572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2368440" y="53006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3549600" y="530064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3924360" y="6078600"/>
            <a:ext cx="503280" cy="393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6300720" y="6049800"/>
            <a:ext cx="503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1638360" y="1562040"/>
            <a:ext cx="5867280" cy="373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476360" y="4076640"/>
            <a:ext cx="525636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547640" y="4797360"/>
            <a:ext cx="5256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905040" y="876240"/>
            <a:ext cx="7333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1681200" y="1523880"/>
            <a:ext cx="5781600" cy="3810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835280" y="2233440"/>
            <a:ext cx="532908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835280" y="2909880"/>
            <a:ext cx="532908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763640" y="3414600"/>
            <a:ext cx="53294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1763640" y="4091040"/>
            <a:ext cx="53294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1908000" y="4738680"/>
            <a:ext cx="5329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5300" descr=""/>
          <p:cNvPicPr/>
          <p:nvPr/>
        </p:nvPicPr>
        <p:blipFill>
          <a:blip r:embed="rId1"/>
          <a:stretch/>
        </p:blipFill>
        <p:spPr>
          <a:xfrm>
            <a:off x="257040" y="866880"/>
            <a:ext cx="8629920" cy="5124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900000" y="290988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900000" y="4148280"/>
            <a:ext cx="6840720" cy="506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900000" y="4811760"/>
            <a:ext cx="684072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6840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4276" descr=""/>
          <p:cNvPicPr/>
          <p:nvPr/>
        </p:nvPicPr>
        <p:blipFill>
          <a:blip r:embed="rId1"/>
          <a:stretch/>
        </p:blipFill>
        <p:spPr>
          <a:xfrm>
            <a:off x="257040" y="271440"/>
            <a:ext cx="8629920" cy="6315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826920" y="3587760"/>
            <a:ext cx="712980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71294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826920" y="4811760"/>
            <a:ext cx="712980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755640" y="5445000"/>
            <a:ext cx="712944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826920" y="6121440"/>
            <a:ext cx="8137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8:0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